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648183"/>
        <c:axId val="16818057"/>
      </c:barChart>
      <c:catAx>
        <c:axId val="176481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18057"/>
        <c:crosses val="autoZero"/>
        <c:auto val="1"/>
        <c:lblAlgn val="ctr"/>
        <c:lblOffset val="100"/>
        <c:noMultiLvlLbl val="0"/>
      </c:catAx>
      <c:valAx>
        <c:axId val="168180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481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4215-32FB-4A5B-9DB1-0D7D5461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6901-1957-4C78-AA7E-2DFF5AB0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4604-B049-4605-8549-5A049D08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CAA6-6361-478B-AA30-E2D24416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02D1-4E48-4186-94BB-1D328A3D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DC4B-EC8C-45C7-95F1-8F91B664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96DC-F7F5-4233-8046-E5E1F3EB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12DE-6C65-4BCC-BAF0-550EB8EA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6A0B-3BCE-4B16-97E5-9AAEE732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BBDC-D637-4F5C-88C2-C4B6607D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1C43-5F6C-4498-B22E-67ECF647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2157-4B39-4446-B57B-0F3DD96A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3C24B-F6B6-4342-A9DD-7F5C54DFF5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