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79819"/>
        <c:axId val="71435707"/>
      </c:barChart>
      <c:catAx>
        <c:axId val="38479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35707"/>
        <c:crosses val="autoZero"/>
        <c:auto val="1"/>
        <c:lblAlgn val="ctr"/>
        <c:lblOffset val="100"/>
        <c:noMultiLvlLbl val="0"/>
      </c:catAx>
      <c:valAx>
        <c:axId val="71435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79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947-A233-4C0F-8CB5-EA42DB13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2B8-BDAF-414C-A0B6-5B2B951A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7FA-EB45-4BE0-B13F-0C1C4D8E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AA9-7A23-46AA-8508-722ECBF0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BA0-A7F5-41DD-8E4C-53B9F216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513-4B7C-422F-BF46-5AB4615C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089-6D97-484F-AF6E-9A23D743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4A1-6B0F-42B7-B264-A0BCD1F1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7D0-798A-4A45-BF7F-45461312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8A4-2BE7-4407-BF82-78362F77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803-2A8C-4E22-9FC2-044B408D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E50-756E-4F54-91A2-BE2AC799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746AB-6EFB-4FDB-9E58-A12D38CBE1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